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814-DCD4-4BE6-B5E4-D1D411B2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246-1BA4-4FB7-B9BB-D41C8FDE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EDD-7E8C-4455-B0B6-272A08C8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CF8-E7A6-4255-A274-7553423A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4AC-72C3-4190-BA3A-86F93715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D22-8B21-4326-BCAC-15B5651D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7C3-E130-486A-8778-B7F003B1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C8A-DA73-463D-AE4F-7A7B3F7A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325-A1D3-4C1C-97F9-03FDC5E6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FA1-9698-47A5-BFB2-D2A0E9EE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248-7079-4E04-B870-5865B598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518-E9E3-4180-8828-8FAD6DF6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25F1-4A3A-453D-B13B-E22A1B78B0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5.xml"/><Relationship Id="rId3" Type="http://schemas.openxmlformats.org/officeDocument/2006/relationships/slide" Target="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6.xml"/><Relationship Id="rId3" Type="http://schemas.openxmlformats.org/officeDocument/2006/relationships/slide" Target=""/><Relationship Id="rId4" Type="http://schemas.openxmlformats.org/officeDocument/2006/relationships/slide" Target="slide12.xml"/><Relationship Id="rId5" Type="http://schemas.openxmlformats.org/officeDocument/2006/relationships/slide" Target="slide3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slide15.xml"/><Relationship Id="rId5" Type="http://schemas.openxmlformats.org/officeDocument/2006/relationships/slide" Target="slide3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" Target=""/><Relationship Id="rId4" Type="http://schemas.openxmlformats.org/officeDocument/2006/relationships/slide" Target="slide18.xml"/><Relationship Id="rId5" Type="http://schemas.openxmlformats.org/officeDocument/2006/relationships/slide" Target="slide3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slide" Target="slide9.xml"/><Relationship Id="rId5" Type="http://schemas.openxmlformats.org/officeDocument/2006/relationships/slide" Target="slide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9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Текст»   5 класс_x000b__x000b_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ставитель: Иванов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мматиче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>
            <a:hlinkClick r:id="rId3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тдель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>
            <a:hlinkClick r:id="rId5" action="ppaction://hlinksldjump"/>
          </p:cNvPr>
          <p:cNvSpPr/>
          <p:nvPr/>
        </p:nvSpPr>
        <p:spPr>
          <a:xfrm>
            <a:off x="114300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х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пределё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следова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rId4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овор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>
            <a:hlinkClick r:id="rId6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2:25:28Z</dcterms:created>
  <dc:creator>-</dc:creator>
  <dc:description/>
  <dc:language>en-US</dc:language>
  <cp:lastModifiedBy>Customer</cp:lastModifiedBy>
  <dcterms:modified xsi:type="dcterms:W3CDTF">2001-12-31T20:42:49Z</dcterms:modified>
  <cp:revision>9</cp:revision>
  <dc:subject/>
  <dc:title>Сложение и вычитание в пределах 100 с переходом через разряд. Тест.</dc:title>
</cp:coreProperties>
</file>